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14A-AE70-4655-BEF8-BFA3A905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D7A-5A11-41BD-A261-E3F07C1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941EC-7E19-457B-8619-7886823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0262E-BC0C-44B7-BED7-1B4A77D5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86A41-4FA2-4E76-909B-6E6A2CF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8CEB8-F306-411D-B756-E70969C6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43A57-59AB-40BD-B54B-E14260C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955F3-A25C-44C6-93E4-AD102BC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0FA15-CF24-43A5-B9A7-FF90805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9AAF-3753-477D-AC5C-6263217F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DD678-8105-43A6-9A55-3D07E070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84FB0-4579-4CED-937C-2B289AAD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19D-F3A7-4D87-BFF5-45710E0A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8328-7624-4370-A964-CCA1473A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1E51C-1A03-495A-B3A3-2371AB27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9BA80-5898-4A27-9085-C18B334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554AB-47C9-415A-9C55-FC12AD2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33AF7-7A5D-46C0-B405-FA8B228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15E2B-6A47-40CA-BB0C-9BCC9BAA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06521-5F8A-4B81-904C-202B59D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D76B7-B678-43B7-965A-4F2916ED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1FE09-EE5A-444B-866F-D517F7AD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20E71-3AE5-4B61-89A2-68C2EC2C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F77-2088-49BE-A71A-418439B8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7508B-4A36-45A8-B5CE-BC9F94D6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400BF-9045-407E-8883-BA07EFC4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CDE79-B212-461D-A93E-33F36F8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0A43-FE15-4486-99B3-2CCBB71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9961E-2A36-49F5-B18C-33FD9AB1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C81CA-83E8-4461-B2B6-A8656415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BD16D-0994-4A4D-ADD6-33B862F3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FEB0D-1424-41FC-A634-4B13407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5649A-5213-4FD9-B7B2-95462CF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53D02-E0EC-4A21-9C9A-5A2609F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9A01-5338-4572-BB74-24EA5CA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CBDCC-2D7D-44D4-85A4-8B812B1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0ADB-E688-4FE0-B617-D603AEA3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0E9A-BC7F-4F4A-8907-07F40C56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2886D-A3C2-4972-8EF4-02ABB30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7E973-B450-4D51-85CB-C797D407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4A094-F505-4FFC-B652-3F1FA2C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09EF6-ACA3-4433-BEDF-1AFD7CFB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83FAA-BFFB-4BA5-9FBE-00639A0D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61577-E9D9-417A-9AD4-FF8202CC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9BC89-1CA0-4F8D-B37A-603F6B6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47D-8D18-4847-B59D-F15C51D8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E1C22-DBF0-47C0-84EF-525FDD8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9763A-FB6E-49AE-811A-05EA716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D77B0-BE09-4D16-AA73-F63F43CB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D158A-076B-4EFE-9623-58D6D154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43A3-1305-4B16-BC46-45641C10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39E5B-75BA-439A-9BB6-42DA517D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FDFD9-9032-4119-A4E6-B5955B1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661D5-3B9B-4B77-BDCC-F2F33A90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610AF-D6DC-4B82-BDBE-C465359D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F7ECF-717D-4A2B-B883-68A4ECF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778-71F6-4455-B217-F5D11A15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EB53A-DA6B-4E81-B919-724D90F8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FCE5F-2C02-459A-AB53-FC60A25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1F4AD-F876-4B23-B265-9A9D516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9EA69-0386-49FE-9D23-370235B3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0F867-A25F-4D61-99E8-61DB802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4A67A-489C-491F-A745-B6335022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4028D-9596-4239-A5C1-5BADAE55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47E5E-7BDE-4133-89CE-3D001A34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09CF0A-C8D0-4FAE-A15B-1F404A6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6A2B0-A3D9-43D6-917E-33E70444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4F49-F865-41AE-9AF0-C2C02E71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AD95BA-618C-4F50-9433-AD3448E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60283-AA8B-45E2-823C-9B7F4A8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8C87A-CDB6-4E0A-9152-78D8C24A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8D925-9FBF-4C5E-828E-D4A07052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CBE14-E784-41B4-9833-9462737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2A401-0E3A-4C7A-9A8C-BF316976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8A989-E192-4EF0-B473-41E63F6D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C7746-3E78-4E8C-A6C7-9EC6CAAE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40E2E-D8AF-453E-BE6D-B2816894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664231-E882-460B-9030-2BF5EBDF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D5B1-5981-4829-99F4-1444842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C52C9-A084-426F-8111-6C46237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2F32D-2777-4100-AB87-74CEAA84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07EAE-B7E4-4CD5-9D22-8E7D780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281D4-ED10-49E8-A38F-5B1656C3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4E93D-8766-4879-8640-EB4FF2D1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E19B1-0481-44AC-B0EE-25F873CC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EC56C-2E8F-4CE7-A8B4-FE57CD2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3BD38-3BD0-4C71-B4C6-B02B777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DFD38-4CE7-4712-944D-6D1A41EB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7CBCF-63CB-4DDE-ACD6-D6DEDA6F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CDA5-B30C-4C56-8A23-BC4A97B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F97A6-D65B-43CA-9C0F-C2EBEE25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2D6D5-CB9B-4B7C-A37E-9527F765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A357D-41DC-46C1-8BF9-75D64D65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3A8B8-9497-49E1-BDA7-2CD027AE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FBE95-F4AD-471F-8E89-43F6F8D2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C11D3-423E-4283-8464-7D5A8B8A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3B59C-E067-48B4-A449-3AE238B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5B9E5-3BB2-4360-BAE9-A05856A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DA827-2123-4548-93CC-4E7C39E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E13F5-4B1E-41A7-81A8-F8DB2B36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C9D7-6462-47C5-8744-F88B29E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86039-41E9-478F-ABBC-1397F64D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09105-64A0-48CC-985C-FEC5632A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4F878-3713-4C3F-8B27-24A1510F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CA77E6-BC27-4578-A8B3-6BEDC770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5B0016-2ED3-4D84-A6E5-317C8E51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E6D838-31B3-4616-AA70-22A6826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3E602-2C42-4E42-8798-9456F4C8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3CB29-ACFB-4E66-AABC-A0F1A3B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C6A6B-7C52-417B-BEFA-47ACB772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691BC-3FF7-4A52-A62F-E6DCF04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73E-EB9C-4D0F-9E0C-53BAE7FB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638-A86B-480E-A9DE-BC9635EC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82BFB-22CA-4619-A2EA-E2D1557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72807-868F-4D0F-9AC7-E06A625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4F28B-FDCB-41E9-AECA-D0542E9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FCE32-9D5A-4022-84F0-5A4848FC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1366F-A2D3-4547-9F69-82A7C4C5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2BB0C-D48E-4F4A-B72E-956A2D10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666F0-B799-4654-91E1-0D953D2C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B8F0A-3AB6-4102-B62D-AE8AD93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119AA-A2FD-4AC0-BA7F-5FC169D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62BF8-6DD9-4F85-A88D-E678BAF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C6FA-B310-4B6F-8924-87FA6BB5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8E820-96F9-4A71-9E2F-72477CB7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A7D61-2683-494F-8012-34370F3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C7557-3516-4993-95DC-5710D59A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D4607-842D-4241-9D8C-DD2C2A4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9F866-2B80-4CEA-BF0B-F06E6099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38DCB-FAF4-4097-B227-77D04394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1D398-634C-4BB9-8F38-CA893AC7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653465-3B0E-4940-94CD-E869F248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4E8F79-BEF3-4D5C-A4CE-36F4514B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B16AF-D2FB-497F-A716-6A441BB0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C2F-3860-44FC-9399-233B72E0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10686-6581-404B-8556-2D887F65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2740C-2148-4E61-AB79-A3B30522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D25FD4-7164-4D06-BAA1-6FB5C278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366C1-EF93-43B7-9657-48119BF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F682B-D06A-4877-AF98-240DE11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B29D9-D56B-45BF-A27F-AA06ACF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E876F-5466-47DB-AB52-9104F7E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6DBD2-71D0-4D34-88EC-3E6809D2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AD174-01DC-45EE-9E99-57A70C00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73477-F91D-4C21-AC7F-E44229F7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6B13-9F25-4D49-A861-DA0C3833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76167-E069-481D-8E69-60C89514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1B212-0809-4B8F-BC98-FC176C6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7049D9-B6B5-452B-BF28-4025939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7F43E-AEDF-4208-860F-D68C510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CBFC5-C758-45AE-A39C-F85DDEE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97E6B-4879-4D16-812D-714E18E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E7DAA-A6B3-4961-87CD-6F7854BC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1B182-D318-495F-B974-AF83996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4B006-40A8-48EF-939B-21E69674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9F6A6-D15E-45F6-A1ED-5589BE2D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3D77-A8A9-4412-9820-F1313592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09E77-381D-47AC-81D5-01726D15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978D1F-BA45-4B3A-AE0E-8257562B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62E414-FA6B-4BC0-A4B8-D6684F20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C1B5B-42B1-4918-ADC2-586C22A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329A1-82FD-4D05-9A3D-0649728F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0B9A3-0250-4876-AEFF-4697449F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B9FB8E-6B1C-48AB-B64F-789E17F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DE61E-8FFF-4E7C-8ABA-7178546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D96D7A-A61F-46BB-BA74-F2B5B70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38E326-7F60-4A2F-AA95-2CCC3958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7B92-C337-4B89-93D8-C40F256A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3D003-80C9-4C2F-9170-37F8AA8B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C0613-8336-4D03-978A-7CA5A745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F78D2-97FB-4E80-9193-FBA3A43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317BF-2B14-4120-AE18-67DBB194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4A535-E8A6-41F2-9C6B-F317709B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34B22A-9193-4534-BFE6-DF52B4AE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DBF872-2078-4F8A-B0B4-2269B81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568123-E088-4D32-BD18-68547E08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6C7BBE-56BC-48E1-A21A-F9E6E83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B0E796-BDF6-44C6-B580-B0EABEC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A8F7-CCD1-4677-8AF0-6B267C96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2D3C4B-6A25-4709-844D-2E68468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EA6EB-D1B5-4F40-8486-E8104DE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039547-717A-410E-BA27-25F8AFAC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77716-1A97-4DAC-932E-71E7D904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6FDFD0-125A-46D8-B9F1-4E107D6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67769-86DE-445C-A0D5-53D504E6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64C1FB-E018-4BAC-99A6-6F86BF26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DF190-E900-4B83-9C5F-1E8EA46C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18929-6784-484F-9BA4-305D1021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0CB856-66F3-4FAE-ADF4-300B215D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7306-44B8-4287-9C21-9595F1C2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3BBE9F-22C9-4829-9421-FBED82D4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6CD970-133D-4C3F-A019-6F4A7CD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A6CE39-7D25-470D-817C-A2A314A7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1B389-991E-4063-A6ED-27C6BA49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61153-4A60-413D-A8C2-53AAFCBA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C1180-93F8-40B7-ACC8-5D3A44D3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94EFAE-C8D1-4A28-9608-88D5E69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E4D6C3-4EFC-4027-B5D4-D34984ED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889679-121A-48B4-8BC2-24C55835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EB97E2-1B77-4571-8B7D-AEE0237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B419-FBB4-4AF6-85AC-2745EBF6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4CB9E8-B884-4866-A195-DE063CD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2A416B-DAAF-4742-A5C6-7AB6B1A0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D3908F-CC63-435F-9D7C-F294B49D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623C4-DBBB-458E-881F-C9F10EF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7FDD87-0856-4A40-B86A-4985B68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7425A1-AF25-4F8B-809A-0517469E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D3694B-81DB-4C01-997A-E2663002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62C761-8C2C-4154-97E8-4D6321B6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03595-3903-4918-ACB9-862B46F8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F1FEFE-5F26-4505-89E7-624B4E17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2EA5-F0A5-400D-9289-6B03783F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99B2E1-A7FD-4691-B1AD-F136560C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59AB1A-A802-4294-87F7-37091F4D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6060F0-69D5-4219-9968-743718F9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691B62-8B59-451E-A5C1-D04ABCF3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931A53-9D51-4A83-9FA8-690D66B3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865105-D372-47A7-8467-B90EE3C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07D8AE-9135-47F6-A23E-436949EE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DC70A9-6174-4090-998C-9987224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7374D5-8625-49D4-9402-41BDA42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F7939D-7FD4-48BF-8EAD-1855A59A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0F1-A7B3-4A26-9650-A486D605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20E7-5AA3-48B8-828B-B10B7E3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728D50-2973-4DB5-8898-0D74FDDF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6228A-A4A7-487F-8049-DDE31433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EDDDE2-FE68-4E96-A037-A3F9259A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8E0A08-7C3E-47CC-B87B-D5DEACE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AC7AE8-E0E0-41E2-B881-AADA755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6F6D34-099E-4872-A115-49FBCB8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4EAB59-237B-4C9D-8713-FA41DAF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83F4B9-A6ED-4BEA-B534-154D406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847104-FA38-4E43-92BF-6E5BE82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D3F0B4-6D13-4135-8F75-7169DFB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15A9-04EF-4E1D-8C0B-E3FDC05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706320-6313-4EE4-82CE-234015CA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9A065D-8763-497A-9391-7D4033F7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7F4910-5803-46CB-A78D-7AFFB6C6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0CDBD4-8639-4C98-8BBA-DEB32C1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D13E78-56CB-4E96-9697-F3A2239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B1B62D-3D09-4558-A2DF-B645B03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36BFAD-479C-41DE-9ABC-6074476A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662598-171A-4D83-9D08-8C57E02A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D40930-57EF-4FFB-AB56-3980BC5C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3DC162-447E-4AF1-8F59-A1EBCC83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B3D9-4280-4565-ABF6-C95591E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3CE090-219A-422D-A2D3-09AA9806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BFE595-F144-4F7B-8996-DE0120D5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CEDBE1-3439-4ABD-A266-67A2E711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3B8AF3-63BC-403C-840E-B0FA7DD0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FAB162-8BD3-4ADD-A6A9-B6597ADC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1A4953-44B1-4540-9377-64C2E3E8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95AFC3-7225-4F29-B9D6-7AE08B3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20AF8B-04E8-45CC-B9F2-B427535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938D8-8208-48C5-AAE0-906A9A3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282AFF-BEFA-490C-A5AC-ABA8AB29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B405-5C49-45EB-9C8F-13FD6B5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369C3C-2761-41A0-84A3-37EDB93B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29EE7B-CF63-4264-A179-8FADABF1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3DF865-DBF5-4AD9-8D23-E4E08E0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DFE6C9-820D-474D-8BE2-1BF5E771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05536-5EE6-4C50-A7C5-7F7C4046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94B02B-04F9-4A2E-A8E8-B9B94A91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DDE1E4-D37B-403A-92B1-E0A50B34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D044C9-F1D2-4CE6-8085-8FFF2BF1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E1A249-F2F3-4C5F-90CA-5C2229D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0F81D9-A4B4-49E3-BB0D-9A33F5A7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3D4C-2915-4255-BBBB-E0B38F10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682FC5-66EF-49A7-8375-C5624D38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187FBA-F923-4155-8E8B-2923384F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D44AA3-ADDE-4C43-8DAD-9729219F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D54F08-E9A1-49AE-8125-6ABF9805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DE8670-7C00-4248-A877-CDE363D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F1620D-6828-4B92-B82A-A12D8BF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28EF6B-BE4F-40CD-9159-4FF51971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3E2ADD-0072-4C27-8B85-A0EE3CBF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5A200B-28DD-42CD-8011-2C2255E5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782D58-76A3-4D15-AEEB-D1AF9F07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C4DB-9F6F-4FCA-BAB2-8E90BCEC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CBB037-2A27-4B09-AE8A-1C7CAA0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EACB92-FF31-46C9-98EC-8A3313A6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94F44B-3910-4A0B-B5F1-84829B3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7A74C4-BC70-4658-A27C-0A413866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5F2360-4277-410C-A39F-02CA6E57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CB234B-7431-4330-B40B-0E1AC07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6F868F-5EDF-45A3-86B8-17097AB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8D459C-553F-4324-8AD1-8C1F904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A95971-F5DF-471E-BA45-F77230C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0B5C31-CBF6-423B-87D6-63F41FEF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1A73-9E71-4F66-A9BB-51C09CEA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BFB47B-E958-4564-A94C-E5249298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864E3E-5EF0-4C9B-B9F5-6680DA04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F34405-3F5C-42B0-809F-19AE283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F2B1E8-4052-46BA-8ED5-39891C8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8A250D-8176-4700-ADFF-7CA796C9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F08CC-E008-490D-AC26-DFFED2B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B855FE-78BD-4A50-9AD8-4F6E3B81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EFF71F-FE20-465E-9BE3-88F7599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A0ACAB-AF2B-41A6-9BE3-DA264774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37863-BF1A-4BE4-B27E-A70D154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D1C5F-28AC-4E14-94E0-0AB895FD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FF14B9-440D-470D-AC3F-CF8BFF8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38F9D0-E88D-454D-9131-6EBC7B52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986DF7-AF2C-4A47-9CC4-26EA6681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D81E-432F-4AD4-A631-AC15BFC5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1F80-6017-420F-BE98-BADBA4F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ADA-E86A-4DB0-ABFE-0C32D65D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0EC6-A558-4D76-B7A3-2CD1D7E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5333-AE8F-485A-AC17-B873818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2844-108F-45C3-A0F9-D3406002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49DB-6F22-46DE-8BBF-250A70CD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C4D3B-0E0D-4E39-8AEA-D73E7DB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DC3A-8BB7-4EB6-84A3-05B5EC9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53A6C-66E4-4F77-8BA9-02DC1252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A00F-6CB1-43D5-9A0F-69235D1E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0C12-57ED-4970-9668-0E1EC891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D519-DD96-420B-9A58-0F3AA08A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798-7DBC-4C04-A950-88C2041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C6611-2AFD-4FBB-9A2C-54C69DB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5C15-BC90-4A01-AD33-E817156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053B-9A13-4A9E-ACFC-70CDDB52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D204-9B46-4E80-9718-C2F6B61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FB77-A334-4806-B91C-41489446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B5222-AB0C-4FD2-B0E3-3AABD96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1A36-AF55-4432-99A8-3E70293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A38B-43B1-4551-8B83-6344AFF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E97F6-7D45-4DA2-9DC3-1C0B0F4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7AF8-4507-4AAF-8BF3-FD45E20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BD6-29F7-4257-93D8-93E905D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6492C-BD32-4CC1-983B-1D1F47EF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6C71-45E6-417E-AFD0-31E1277B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E07A-7A91-4E68-9BAD-0E66FD3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4CC4-9521-444F-9AB1-5E8373FE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DF90-525C-413B-AB4C-DAA02809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AA75-60DC-48D2-8894-5803D976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D94E6-AF15-4E45-92D3-8383A3C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FD641-3272-47F9-93F9-192F2EE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D47C6-10B7-400B-B79C-8FA84F0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1FB96-3CC3-457E-B28C-F20F5E1F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386-6ED5-4E2A-A500-22C4E54F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2F0BF-8B48-43BB-B83E-C2ECE124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5E7B-F70B-4AC2-8040-1459A5D7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D8C9-C81B-47E7-9267-873D1D61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EA2C-5FED-4233-A54C-660EC2B1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A2058-AE56-4621-81EB-0D9463D8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E3C3-A48D-4B89-BB5D-C124C40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8AFA7-39BB-4360-88AF-478D745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ED74B-E9C8-4AEE-90B5-95473447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32E9-72A3-488E-B275-D9F0E720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DB778-4D39-47F9-8DA9-A252D0DF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065-A3B6-44F7-AB76-E47FA0E2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343D1-C6C3-490D-A548-94BF5AF0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7FEF-3A1B-4ABE-A3BE-C6973F8A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1C4CB-377A-4F71-956F-32FFDEA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E08AF-A658-468A-A823-E8A1D539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2F310-3F2C-4951-BD93-5F054FA9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3168-597B-4542-B0D2-68E791AB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1E163-5D17-4513-962B-1110865A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7DBEF-5F05-41FC-BA6A-225C1983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187D-48D8-464C-9615-6A105BAA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5C355-4778-412D-B8F6-37F76A27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AA3-B6D3-4ADF-B29A-EB7D2B15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F5A2F-AA9C-4667-A5DC-C7F8C9E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1BBB-34CF-45F3-BB2A-BB62E158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880E-16DE-4AB3-B43B-E5F16C7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30229-C14E-48A1-8D8A-AC872A91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9878B-726A-41F4-8C8B-FB797BA6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AE3D6-4F7D-4291-809F-1EB73539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9D77A-B5FE-48A9-98E0-98BED619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E638B-592D-4C0E-BF5A-5B259C3C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3B62E-D6EA-48DE-8F68-9DDD8C68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16B29-2804-4BC4-AF32-2DC2C857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AA13-F5E0-4BB1-BDB1-3434A2A286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26F-C8F5-4B99-949E-A203665E3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C0F-0750-4DF7-ADEF-DF2B1D6071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AEB-4C7A-4C30-BADB-63CB1E78D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9FF8-E878-4FD0-92BB-C6D2AFB076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23DC-A5B9-4C51-9C6A-8AE26FABA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9588-644A-431E-ADA8-DD773A2B62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9692-BF8B-489A-B83C-09B2113F9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EA9-41BE-4AC3-A200-E56512ED9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0BF-4248-4291-9DC5-A6F7E9BA0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880C-2016-4AA5-A085-4C49977D8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34BB-492C-409E-8CAB-01029476A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BA1B-9220-46CD-9339-6E5A2129F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398-8994-4906-92FF-49CC0BB96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58B6-A38C-408D-99C2-BCF694CA9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993-7F1F-4281-A10B-90C7BFFC6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7F4B-F765-4305-A0D9-34970F53A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6E4B-F971-40B8-ACF3-55EE497BEA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146-A5A9-484E-9C8B-9ED57A6F6C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E9F-0A86-4575-A933-86688F517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C8EF-A520-4749-AE92-BCD721E0FE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9114-84E3-4F40-9F3E-11D8400AC8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AB4-2A36-4B9D-8B6C-DA9E826A0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5266-C32E-4427-9B1D-5EC1A6CEF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694-AB42-4E39-B8C5-87C50B94C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A27-61F3-4A2F-AAEA-C3BE9D751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BF4-7585-4B99-9A76-0F889DFC3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37CA-5C9A-48AD-B6DC-E6A16D26FB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E429-B493-4590-9CA2-F1BFF82EA1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DD8-5B02-4FD1-9A3D-9EE693366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39B-0964-4CEA-80A0-41EDB2F7B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BC7-917D-420A-8816-60C9D6E11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353-78FF-4FE4-B4DF-853102EED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C13-07EF-4EE3-9AC5-ABBE7631C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BB9-0496-44B1-A1A0-D35293560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65B-6EE6-4602-8C87-121FB00B0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DD3A-E1DC-4659-BE95-18DA8D77EA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0C2E-847E-4B2D-9C95-72B1A4FF23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7E5-54C0-4388-896E-5F7D46067A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2AED-D415-43F9-8F4F-DE90C63AD0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EF8F-F5E6-466F-9F29-8FDC2AD07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2DAE-2C65-4DCD-AB10-5B970FB0D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F9A9-A78C-432F-8D85-2B33533D32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7846-CAD1-4444-8F66-0E006DCF05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BF4-B0E9-4441-A5A1-9AD7966161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E76-B8FE-4A93-BCDA-06943929D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F040-2E0C-4632-9F5A-375A4B422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03F5-A3FA-41F9-9E86-3CA8966728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4D6E-50EB-45AE-97CE-98577682FB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3D2-5346-4209-948B-02F9400264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647800" cy="7430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69724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673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488360" cy="554544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6738"/>
          <p:cNvSpPr/>
          <p:nvPr/>
        </p:nvSpPr>
        <p:spPr>
          <a:xfrm>
            <a:off x="7210440" y="2379600"/>
            <a:ext cx="5047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5713" descr=""/>
          <p:cNvPicPr/>
          <p:nvPr/>
        </p:nvPicPr>
        <p:blipFill>
          <a:blip r:embed="rId1"/>
          <a:stretch/>
        </p:blipFill>
        <p:spPr>
          <a:xfrm>
            <a:off x="457200" y="2119320"/>
            <a:ext cx="8229600" cy="261936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5714"/>
          <p:cNvSpPr/>
          <p:nvPr/>
        </p:nvSpPr>
        <p:spPr>
          <a:xfrm>
            <a:off x="7885080" y="2133720"/>
            <a:ext cx="5047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4689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248680" cy="268596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14690" descr=""/>
          <p:cNvPicPr/>
          <p:nvPr/>
        </p:nvPicPr>
        <p:blipFill>
          <a:blip r:embed="rId2"/>
          <a:stretch/>
        </p:blipFill>
        <p:spPr>
          <a:xfrm>
            <a:off x="684360" y="4292640"/>
            <a:ext cx="7724520" cy="213372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4691"/>
          <p:cNvSpPr/>
          <p:nvPr/>
        </p:nvSpPr>
        <p:spPr>
          <a:xfrm>
            <a:off x="7667640" y="1222200"/>
            <a:ext cx="5047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3665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77120" cy="521964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13666"/>
          <p:cNvSpPr/>
          <p:nvPr/>
        </p:nvSpPr>
        <p:spPr>
          <a:xfrm>
            <a:off x="5622840" y="4551480"/>
            <a:ext cx="16131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3667"/>
          <p:cNvSpPr/>
          <p:nvPr/>
        </p:nvSpPr>
        <p:spPr>
          <a:xfrm>
            <a:off x="7058160" y="5110200"/>
            <a:ext cx="1612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3668"/>
          <p:cNvSpPr/>
          <p:nvPr/>
        </p:nvSpPr>
        <p:spPr>
          <a:xfrm>
            <a:off x="1622520" y="5630760"/>
            <a:ext cx="46051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112641" descr=""/>
          <p:cNvPicPr/>
          <p:nvPr/>
        </p:nvPicPr>
        <p:blipFill>
          <a:blip r:embed="rId1"/>
          <a:stretch/>
        </p:blipFill>
        <p:spPr>
          <a:xfrm>
            <a:off x="571680" y="1805040"/>
            <a:ext cx="8001000" cy="3247920"/>
          </a:xfrm>
          <a:prstGeom prst="rect">
            <a:avLst/>
          </a:prstGeom>
          <a:ln w="0">
            <a:noFill/>
          </a:ln>
        </p:spPr>
      </p:pic>
      <p:sp>
        <p:nvSpPr>
          <p:cNvPr id="1490" name="矩形 112642"/>
          <p:cNvSpPr/>
          <p:nvPr/>
        </p:nvSpPr>
        <p:spPr>
          <a:xfrm>
            <a:off x="6397560" y="2900520"/>
            <a:ext cx="8384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2643"/>
          <p:cNvSpPr/>
          <p:nvPr/>
        </p:nvSpPr>
        <p:spPr>
          <a:xfrm>
            <a:off x="5622840" y="4005360"/>
            <a:ext cx="27655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2644"/>
          <p:cNvSpPr/>
          <p:nvPr/>
        </p:nvSpPr>
        <p:spPr>
          <a:xfrm>
            <a:off x="1546200" y="4525920"/>
            <a:ext cx="13701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11617" descr=""/>
          <p:cNvPicPr/>
          <p:nvPr/>
        </p:nvPicPr>
        <p:blipFill>
          <a:blip r:embed="rId1"/>
          <a:stretch/>
        </p:blipFill>
        <p:spPr>
          <a:xfrm>
            <a:off x="414360" y="957240"/>
            <a:ext cx="83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10593" descr=""/>
          <p:cNvPicPr/>
          <p:nvPr/>
        </p:nvPicPr>
        <p:blipFill>
          <a:blip r:embed="rId1"/>
          <a:stretch/>
        </p:blipFill>
        <p:spPr>
          <a:xfrm>
            <a:off x="519120" y="985680"/>
            <a:ext cx="8105760" cy="488664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10594"/>
          <p:cNvSpPr/>
          <p:nvPr/>
        </p:nvSpPr>
        <p:spPr>
          <a:xfrm>
            <a:off x="1660680" y="1554120"/>
            <a:ext cx="608004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0595"/>
          <p:cNvSpPr/>
          <p:nvPr/>
        </p:nvSpPr>
        <p:spPr>
          <a:xfrm>
            <a:off x="6359400" y="2087640"/>
            <a:ext cx="5050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0596"/>
          <p:cNvSpPr/>
          <p:nvPr/>
        </p:nvSpPr>
        <p:spPr>
          <a:xfrm>
            <a:off x="2854440" y="3687840"/>
            <a:ext cx="5047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597"/>
          <p:cNvSpPr/>
          <p:nvPr/>
        </p:nvSpPr>
        <p:spPr>
          <a:xfrm>
            <a:off x="6016680" y="4805280"/>
            <a:ext cx="23716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10598"/>
          <p:cNvSpPr/>
          <p:nvPr/>
        </p:nvSpPr>
        <p:spPr>
          <a:xfrm>
            <a:off x="1403280" y="5329080"/>
            <a:ext cx="1117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109569" descr=""/>
          <p:cNvPicPr/>
          <p:nvPr/>
        </p:nvPicPr>
        <p:blipFill>
          <a:blip r:embed="rId1"/>
          <a:stretch/>
        </p:blipFill>
        <p:spPr>
          <a:xfrm>
            <a:off x="552600" y="1747800"/>
            <a:ext cx="8038800" cy="3362400"/>
          </a:xfrm>
          <a:prstGeom prst="rect">
            <a:avLst/>
          </a:prstGeom>
          <a:ln w="0">
            <a:noFill/>
          </a:ln>
        </p:spPr>
      </p:pic>
      <p:sp>
        <p:nvSpPr>
          <p:cNvPr id="1501" name="矩形 109570"/>
          <p:cNvSpPr/>
          <p:nvPr/>
        </p:nvSpPr>
        <p:spPr>
          <a:xfrm>
            <a:off x="4746600" y="2836800"/>
            <a:ext cx="37861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9571"/>
          <p:cNvSpPr/>
          <p:nvPr/>
        </p:nvSpPr>
        <p:spPr>
          <a:xfrm>
            <a:off x="1619280" y="3370320"/>
            <a:ext cx="2531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9572"/>
          <p:cNvSpPr/>
          <p:nvPr/>
        </p:nvSpPr>
        <p:spPr>
          <a:xfrm>
            <a:off x="7400880" y="3890880"/>
            <a:ext cx="8431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096040" cy="389556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195640" y="2492280"/>
            <a:ext cx="2274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5148360" y="2492280"/>
            <a:ext cx="1171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2500200" y="2860560"/>
            <a:ext cx="4519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2970360" y="3546360"/>
            <a:ext cx="2178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3097080" y="3914640"/>
            <a:ext cx="2411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6348240" y="3914640"/>
            <a:ext cx="1171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2906640" y="4257720"/>
            <a:ext cx="1378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5573880" y="4270320"/>
            <a:ext cx="25272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3338640" y="4600440"/>
            <a:ext cx="1377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0"/>
          <p:cNvSpPr/>
          <p:nvPr/>
        </p:nvSpPr>
        <p:spPr>
          <a:xfrm>
            <a:off x="6183360" y="4626000"/>
            <a:ext cx="11714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1"/>
          <p:cNvSpPr/>
          <p:nvPr/>
        </p:nvSpPr>
        <p:spPr>
          <a:xfrm>
            <a:off x="2106720" y="4968720"/>
            <a:ext cx="4410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3905" descr=""/>
          <p:cNvPicPr/>
          <p:nvPr/>
        </p:nvPicPr>
        <p:blipFill>
          <a:blip r:embed="rId1"/>
          <a:stretch/>
        </p:blipFill>
        <p:spPr>
          <a:xfrm>
            <a:off x="352440" y="2548080"/>
            <a:ext cx="8439120" cy="17618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3906"/>
          <p:cNvSpPr/>
          <p:nvPr/>
        </p:nvSpPr>
        <p:spPr>
          <a:xfrm>
            <a:off x="2849400" y="2886120"/>
            <a:ext cx="858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3907"/>
          <p:cNvSpPr/>
          <p:nvPr/>
        </p:nvSpPr>
        <p:spPr>
          <a:xfrm>
            <a:off x="4780080" y="2873520"/>
            <a:ext cx="12319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3914"/>
          <p:cNvSpPr/>
          <p:nvPr/>
        </p:nvSpPr>
        <p:spPr>
          <a:xfrm>
            <a:off x="7878600" y="2860560"/>
            <a:ext cx="509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3915"/>
          <p:cNvSpPr/>
          <p:nvPr/>
        </p:nvSpPr>
        <p:spPr>
          <a:xfrm>
            <a:off x="4881600" y="3241800"/>
            <a:ext cx="25700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3916"/>
          <p:cNvSpPr/>
          <p:nvPr/>
        </p:nvSpPr>
        <p:spPr>
          <a:xfrm>
            <a:off x="5440320" y="3597120"/>
            <a:ext cx="3164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17"/>
          <p:cNvSpPr/>
          <p:nvPr/>
        </p:nvSpPr>
        <p:spPr>
          <a:xfrm>
            <a:off x="1109520" y="3965400"/>
            <a:ext cx="858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122881" descr=""/>
          <p:cNvPicPr/>
          <p:nvPr/>
        </p:nvPicPr>
        <p:blipFill>
          <a:blip r:embed="rId1"/>
          <a:stretch/>
        </p:blipFill>
        <p:spPr>
          <a:xfrm>
            <a:off x="357120" y="1752480"/>
            <a:ext cx="8429760" cy="33530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22884"/>
          <p:cNvSpPr/>
          <p:nvPr/>
        </p:nvSpPr>
        <p:spPr>
          <a:xfrm>
            <a:off x="8124840" y="4060800"/>
            <a:ext cx="4316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1857" descr=""/>
          <p:cNvPicPr/>
          <p:nvPr/>
        </p:nvPicPr>
        <p:blipFill>
          <a:blip r:embed="rId1"/>
          <a:stretch/>
        </p:blipFill>
        <p:spPr>
          <a:xfrm>
            <a:off x="366840" y="2195640"/>
            <a:ext cx="8410320" cy="246672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21858"/>
          <p:cNvSpPr/>
          <p:nvPr/>
        </p:nvSpPr>
        <p:spPr>
          <a:xfrm>
            <a:off x="8172360" y="2205000"/>
            <a:ext cx="432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2083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67560" cy="46004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20834"/>
          <p:cNvSpPr/>
          <p:nvPr/>
        </p:nvSpPr>
        <p:spPr>
          <a:xfrm>
            <a:off x="3083040" y="3171960"/>
            <a:ext cx="84132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35"/>
          <p:cNvSpPr/>
          <p:nvPr/>
        </p:nvSpPr>
        <p:spPr>
          <a:xfrm>
            <a:off x="4454640" y="3527280"/>
            <a:ext cx="431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6"/>
          <p:cNvSpPr/>
          <p:nvPr/>
        </p:nvSpPr>
        <p:spPr>
          <a:xfrm>
            <a:off x="4859280" y="4240080"/>
            <a:ext cx="338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0837"/>
          <p:cNvSpPr/>
          <p:nvPr/>
        </p:nvSpPr>
        <p:spPr>
          <a:xfrm>
            <a:off x="7718400" y="4594320"/>
            <a:ext cx="432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0838"/>
          <p:cNvSpPr/>
          <p:nvPr/>
        </p:nvSpPr>
        <p:spPr>
          <a:xfrm>
            <a:off x="4352760" y="4937040"/>
            <a:ext cx="432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20839"/>
          <p:cNvSpPr/>
          <p:nvPr/>
        </p:nvSpPr>
        <p:spPr>
          <a:xfrm>
            <a:off x="8028000" y="5310360"/>
            <a:ext cx="738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20840"/>
          <p:cNvSpPr/>
          <p:nvPr/>
        </p:nvSpPr>
        <p:spPr>
          <a:xfrm>
            <a:off x="1038240" y="5661000"/>
            <a:ext cx="33177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9810" descr=""/>
          <p:cNvPicPr/>
          <p:nvPr/>
        </p:nvPicPr>
        <p:blipFill>
          <a:blip r:embed="rId1"/>
          <a:stretch/>
        </p:blipFill>
        <p:spPr>
          <a:xfrm>
            <a:off x="419040" y="1847880"/>
            <a:ext cx="8305920" cy="316224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9811"/>
          <p:cNvSpPr/>
          <p:nvPr/>
        </p:nvSpPr>
        <p:spPr>
          <a:xfrm>
            <a:off x="7885080" y="2565360"/>
            <a:ext cx="432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77120" cy="546732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7"/>
          <p:cNvSpPr/>
          <p:nvPr/>
        </p:nvSpPr>
        <p:spPr>
          <a:xfrm>
            <a:off x="4226040" y="4869000"/>
            <a:ext cx="17143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8788"/>
          <p:cNvSpPr/>
          <p:nvPr/>
        </p:nvSpPr>
        <p:spPr>
          <a:xfrm>
            <a:off x="6029280" y="5427720"/>
            <a:ext cx="25750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8789"/>
          <p:cNvSpPr/>
          <p:nvPr/>
        </p:nvSpPr>
        <p:spPr>
          <a:xfrm>
            <a:off x="466560" y="5961240"/>
            <a:ext cx="17146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7761" descr=""/>
          <p:cNvPicPr/>
          <p:nvPr/>
        </p:nvPicPr>
        <p:blipFill>
          <a:blip r:embed="rId1"/>
          <a:stretch/>
        </p:blipFill>
        <p:spPr>
          <a:xfrm>
            <a:off x="485640" y="1557360"/>
            <a:ext cx="8172720" cy="37432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7762"/>
          <p:cNvSpPr/>
          <p:nvPr/>
        </p:nvSpPr>
        <p:spPr>
          <a:xfrm>
            <a:off x="4886280" y="2100240"/>
            <a:ext cx="37180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7763"/>
          <p:cNvSpPr/>
          <p:nvPr/>
        </p:nvSpPr>
        <p:spPr>
          <a:xfrm>
            <a:off x="1495440" y="2583000"/>
            <a:ext cx="235584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7764"/>
          <p:cNvSpPr/>
          <p:nvPr/>
        </p:nvSpPr>
        <p:spPr>
          <a:xfrm>
            <a:off x="4721400" y="2620800"/>
            <a:ext cx="208260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7765"/>
          <p:cNvSpPr/>
          <p:nvPr/>
        </p:nvSpPr>
        <p:spPr>
          <a:xfrm>
            <a:off x="7553160" y="3700440"/>
            <a:ext cx="12668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7766"/>
          <p:cNvSpPr/>
          <p:nvPr/>
        </p:nvSpPr>
        <p:spPr>
          <a:xfrm>
            <a:off x="5889600" y="4246560"/>
            <a:ext cx="27147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7767"/>
          <p:cNvSpPr/>
          <p:nvPr/>
        </p:nvSpPr>
        <p:spPr>
          <a:xfrm>
            <a:off x="1116000" y="4792680"/>
            <a:ext cx="16336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9:17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